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F8A-47AD-4D3D-B80F-79B659BF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0B4-8486-47B2-BA2E-4C0E6A95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899-3147-4D4B-AE61-68C153CF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115-39AD-4710-9A34-B39EA2D2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98ED-F310-4B45-83FF-E3E60089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0EE7-1B65-4C66-A1D5-63175885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93FF-4B65-442F-AED5-24823A45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A2BD-78EC-49F0-A7A9-38B03A46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6CD6-558F-4B5D-A026-6E099E43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7C5C-6FFB-4F75-911D-8F44D6C6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8EC4-01D0-44EE-BAD8-EC06ACF6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17F-4D6D-43BD-AC1E-B0137B7C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6203-7798-46B6-B8E9-2850499B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EE5C-F251-455B-B259-89D11143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D40B-D493-4DF4-AB13-325BECB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08C6-7BED-4AD6-ADBE-7381DE05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C321-286B-4452-80EC-FD346AB7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418-D8B3-4956-B5D9-0BE2F726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F0C-65B9-4779-AB3E-96521016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63C-B2D6-4016-827F-EF6126A1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C19-F171-483B-AC1D-DD51BC72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1C3-1130-41AF-ADA1-437D5D99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3C6-039A-4B3D-9EF3-C499946B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ECC-290A-49F3-9361-1FA25645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BB5E-48D9-4840-B7C5-0B9F0D926C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0A5F-8BEE-4B8A-9A5E-3E03A88C9C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lackadder ITC"/>
              </a:rPr>
              <a:t>La clase de espan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ackadder ITC"/>
              </a:rPr>
              <a:t>Magdal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La famil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La m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El   pa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La  n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El   n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La abual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El   abual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La  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El   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963720" y="1600200"/>
            <a:ext cx="302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Los  trabaj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lackadder ITC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26:32Z</dcterms:created>
  <dc:creator>WSFCS Workstation</dc:creator>
  <dc:description/>
  <dc:language>en-US</dc:language>
  <cp:lastModifiedBy>WSFCS Workstation</cp:lastModifiedBy>
  <dcterms:modified xsi:type="dcterms:W3CDTF">2010-04-28T18:53:51Z</dcterms:modified>
  <cp:revision>3</cp:revision>
  <dc:subject/>
  <dc:title>La clase de espanol</dc:title>
</cp:coreProperties>
</file>